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F2D8-3DF0-40DF-98EC-1AF66B017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lessontutor.com/jm_digest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klbict.co.uk/interactive/science/hear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85A4-DA05-4CC6-8271-980C5340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EE8F-754A-4E1C-895D-C460E312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1CE1-61E5-4A12-ADB4-60AE8D42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5CE0-D90C-490C-97F5-F5CE2C61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19A-FB13-4759-8FD4-BE61E019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9B11-E013-45F1-AAF6-6363182C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9D92-C021-4D5C-B930-933A0837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F48D-F793-4174-8052-D0FC6C21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FBE0-A05E-492D-87E8-C939EAF3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CC65-6909-4E39-8381-1CB60472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FD00-8EB8-40FE-BD67-2E737CD6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59F0-6431-4E24-83E9-6F0C264E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B97E-3DEB-4BDE-BE7F-E6DB35F18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 &amp; Circulatory System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5040" y="609480"/>
            <a:ext cx="3732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glot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l blad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e 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to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esopha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stom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 duode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panc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small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 rec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 System Quiz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http://kidshealth.org/kid/htbw/DSquiz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http://www.softschools.com/quizzes/science/digestive_system/quiz75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21040" y="609480"/>
            <a:ext cx="5101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 va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left at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pulmonary v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ao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pulmonary ar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 System Quiz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kidshealth.org/kid/htbw/CSquiz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oftschools.com/quizzes/science/circulatory_system/quiz758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16:11:23Z</dcterms:created>
  <dc:creator>rubina khan</dc:creator>
  <dc:description/>
  <dc:language>en-US</dc:language>
  <cp:lastModifiedBy>rubina khan</cp:lastModifiedBy>
  <dcterms:modified xsi:type="dcterms:W3CDTF">2012-11-29T18:29:34Z</dcterms:modified>
  <cp:revision>11</cp:revision>
  <dc:subject/>
  <dc:title>Digestive &amp; Circulatory System Review</dc:title>
</cp:coreProperties>
</file>